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5D3-7D4A-4ED6-ABFC-01C4F667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32C-31CD-4968-9671-EF2D47A6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53C2-5D41-4987-BC66-E50ED957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909-CEA0-4B55-90AE-5CFD5EE9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1898-5F52-419A-9D7E-43047452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E440-843F-4AB0-AE9A-BA1F2984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625F-1417-442A-A397-AF22BABF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D48B-DEC3-4D3C-8E5F-5B58F196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EAEF-8FA7-49E7-A256-CDC05663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2726-F9C9-4C3D-BAA4-679ED322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86F0-50A0-49A0-A0B5-49D4454A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5F2-C5E0-44D7-8754-A163BC3F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11A2-09F1-4DC5-A780-B1EF5D19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8FDA-7523-403B-BCBB-05564A29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995C-1FF4-454E-B175-90E9FDCB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827F-9548-45A4-82DD-568C7A37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765D-10C8-459B-B115-2B2323A7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E3C2A-7136-4F06-8757-3EBC233C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C63D-B169-4C25-8AC6-0123963F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DFE6-9899-4D73-98E5-56A266CD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2EC45-DE98-46DA-87F9-688845F9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296E4-161F-48BD-B8B4-7D47A34D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D9D9-0C15-4F53-8849-DB164C44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8CACF-08B9-46BA-B82F-FC08BAA8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447B4-E923-452A-ACAC-4CA3D15E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7D6E6-9D6A-4ACC-961D-B0E2FB91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89039-8C52-4FC6-A8B7-9EAA7595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7399A-1694-4EFC-B641-1EFDA7B2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398EE-F800-4DD0-BC19-75128658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CDBFF-A3AC-4EA9-8374-EE0EBF5B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CD91D-A92B-487B-B799-E62B804F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D4090-DC2D-4BD8-9D74-37DBA4DC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17871-38B1-4B1A-9527-EC11B3E5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560-04C0-41D9-BFD2-EE0101B0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65F1F-BF70-4DAF-9DB6-9F7B6C82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0CFAD-F868-4743-990D-D391D55F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7492C-2492-44E8-9F50-7AD9C578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766DC-57B9-4505-B9DE-9A642069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2B114-1906-4B81-B5F0-2B2CDF69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52B30-25A9-4299-87E4-AE33E45D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CE8C4-6964-49EA-A115-0B8D1A31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F745B-B1F7-47A8-8BBF-01E9A96F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142D4-8DF9-46B7-A83F-3B3A6732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AEB8F-DA2C-4780-A392-06955A67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483-C821-4FD8-B4DE-70214AF4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60360-B648-4F54-8F22-8C9AC5D1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CC32C-6D6E-49BE-9150-CC308203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BB272-DDB9-4AB6-BBD7-9FB0ADFF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0A685-C0F2-443B-B367-3BD83D43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A18FD-D133-4077-ABBC-E80F4513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08D2B-16B3-4AFC-90CC-DD560AFB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D38E6-7F1B-43F3-AD04-2A78635E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F11C0-5A6A-4D18-B07D-ADE7585C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43863-0EE4-46F2-B504-5A173F4F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C36A9-CF95-423B-B6EE-C5C0207D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EBB-7C32-46F0-B4BD-E5C87FA9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9E90E-04B9-4C36-AE2F-1831A8FC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30B6F-5AA0-4FF5-AC09-BB996CDC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1355E-8D9B-4AA7-B1B5-7ECFE07E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4AFBB-11D9-455B-B196-081D784F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5490A-8633-4CA9-8A6F-F332A773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F6126-D9F2-41E6-86A9-9E79C7A1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35768-F63D-4ACC-9A02-83C5ECC4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12DF7-7FDF-419A-8A9E-5B44301B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9EE69-122D-46E1-9079-82E0625C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46A68-E080-414A-B6F5-981226BD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B230-A209-4EF2-AA7A-82861754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BC154-0962-48E5-9D6C-A9BD3789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0D40E-B7A9-457C-8C00-06D4CF90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DBC11-DD52-4684-A442-1DF6F583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0AE19-CC0F-42D1-9905-479304C1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F1FEA-20CF-4F38-90BB-2E1D6298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043E0-5699-48A3-AA86-8155C542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7C1C7-CA8B-4638-A63B-925B740E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7D8B8-4679-4606-B7F6-0C61F438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B1DA7-0D14-4258-854F-A67B3715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E63BE-2D82-454D-B84F-08B19B7A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7A2C-27B1-4AFB-ABF3-C1ED5E5E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DAF80-3BAC-4614-AC80-7860591B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A4007-146C-4857-9729-2507F066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9B67C-31E8-4168-90F7-F505519C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2AFF7-6ACF-44CA-84E9-035D0893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9A475-C994-492A-8A65-C0114ECA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D6B-6C8B-442F-8D57-096C4045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E0E0-55FF-4E32-83B2-442B39E3EC7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6FB7-2F01-48EB-8454-709A43610A7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1EF6-9134-4D47-8834-BCC79830B56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7C46-8F7C-4B06-8583-32927A3487E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EB15-2E35-4159-A65B-87EDFD0B187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841C-8C34-4925-9DB6-E6B4FE69F52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C784-51E2-4FA3-BF8D-1A2C0E3208C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y: Octoberia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6" name="Content Placeholder 3" descr="HO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MMUNIT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9" name="Content Placeholder 3" descr="COMMUNITIES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1" name="Content Placeholder 3" descr="COMMUNITITES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CHOO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2" name="Content Placeholder 3" descr="CLASSROOM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4" name="Content Placeholder 3" descr="CLASSROOM5.jpg"/>
          <p:cNvPicPr/>
          <p:nvPr/>
        </p:nvPicPr>
        <p:blipFill>
          <a:blip r:embed="rId1"/>
          <a:stretch/>
        </p:blipFill>
        <p:spPr>
          <a:xfrm>
            <a:off x="0" y="0"/>
            <a:ext cx="6730920" cy="4203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LASSROOM4.jpg"/>
          <p:cNvPicPr/>
          <p:nvPr/>
        </p:nvPicPr>
        <p:blipFill>
          <a:blip r:embed="rId2"/>
          <a:stretch/>
        </p:blipFill>
        <p:spPr>
          <a:xfrm>
            <a:off x="5651640" y="3213000"/>
            <a:ext cx="3492360" cy="3645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CLASSROOM1.jpg"/>
          <p:cNvPicPr/>
          <p:nvPr/>
        </p:nvPicPr>
        <p:blipFill>
          <a:blip r:embed="rId3"/>
          <a:stretch/>
        </p:blipFill>
        <p:spPr>
          <a:xfrm>
            <a:off x="0" y="3357720"/>
            <a:ext cx="5715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ORKPLAC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Content Placeholder 3" descr="WORKPLACE2.jpg"/>
          <p:cNvPicPr/>
          <p:nvPr/>
        </p:nvPicPr>
        <p:blipFill>
          <a:blip r:embed="rId1"/>
          <a:stretch/>
        </p:blipFill>
        <p:spPr>
          <a:xfrm>
            <a:off x="4572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1" name="Content Placeholder 3" descr="WORKPLACE1.jpg"/>
          <p:cNvPicPr/>
          <p:nvPr/>
        </p:nvPicPr>
        <p:blipFill>
          <a:blip r:embed="rId1"/>
          <a:stretch/>
        </p:blipFill>
        <p:spPr>
          <a:xfrm>
            <a:off x="349200" y="1523880"/>
            <a:ext cx="8791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M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4" name="Content Placeholder 3" descr="HOME4.jpg"/>
          <p:cNvPicPr/>
          <p:nvPr/>
        </p:nvPicPr>
        <p:blipFill>
          <a:blip r:embed="rId1"/>
          <a:stretch/>
        </p:blipFill>
        <p:spPr>
          <a:xfrm>
            <a:off x="163440" y="0"/>
            <a:ext cx="898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5:03:16Z</dcterms:created>
  <dc:creator>Imperialdramon</dc:creator>
  <dc:description/>
  <dc:language>en-US</dc:language>
  <cp:lastModifiedBy>user</cp:lastModifiedBy>
  <dcterms:modified xsi:type="dcterms:W3CDTF">2012-07-12T09:47:14Z</dcterms:modified>
  <cp:revision>2</cp:revision>
  <dc:subject/>
  <dc:title>Dehumanization</dc:title>
</cp:coreProperties>
</file>